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B0D8-390A-48E3-93DD-9FAF7F35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C17-E501-4D04-AF19-14FBEA6A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7837-D9AD-4285-813C-499F1875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E35-5B17-458B-8F0D-EDB5FA3E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940D-CC6D-4F97-BFDA-E13FEDFD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A2F8-2FA6-4A3B-9C89-4F49E54D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12D7-A4DF-4DE7-832A-48004C68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6013-4BFC-472F-A15B-385E50B8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AA1B-3822-45AB-BE54-87C7BA55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1CB4-90F2-4E12-AB7C-3C9756E9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EA61-0520-4735-9699-893D429E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183F-A954-4458-8712-55D225C2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B041-39F1-4735-BC1B-4905304D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B91F-18DA-4AFB-BEDF-1083B978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C56B-BFEF-48AF-9372-52B359A3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1614-5648-42F8-8270-2D39043A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D7E5-7FEA-47F1-BD0F-425DAD90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948C7-05FB-400B-9C9A-99DD37A3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48983-36BE-48AB-B45B-88DCEA92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882B7-D25D-422F-A774-6C27E1CD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FBFB0-5649-419E-AEB7-309763FC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62EA9-B466-49A9-9330-0B876DFC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DE3-DEFE-4B91-929E-189453E9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737C3-0222-4851-80EC-BB84F921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B3795-0AC1-4AD9-AE61-9E7698FD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89FBE-40A9-497E-81EF-71ECEA44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D08EB-188B-421C-9546-CB751C6E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E9F11-6BC8-4E98-AB43-256BB718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95BA6-2063-4280-8A04-9124E271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D10BF-99F6-4837-AF55-7F215940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01994-DA42-4FFE-B15B-FF16F072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FB182-BA2D-4C65-B498-7BD3E69D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E3AF5-BDFC-4975-83FA-9EF24A64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1F8-8C22-40A3-94D8-F9719DA0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8E49A-CBA4-4E0B-A147-038ADB60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D6EB3-2835-485B-9962-41E8B868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002D3-86F1-4304-8E98-8418A412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4E8BE-C811-446A-9489-71A5DA54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E563D-7D51-4A3C-B714-18B24648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6436A-5C7D-4CB9-AEDE-BE64CA76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DE49F-4ED8-4D22-A992-4D8FF039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26A7B-7E0C-48A3-9E20-8663E7AF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7FF86-21E3-4808-A28A-65D91E8E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C6CA3-DEDA-417B-8426-C673FFD4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E403-43FC-4AA9-BA18-CA9DFC4B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9E631-97D9-4B4A-9999-0DC4FFC1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AB98F-4BA8-4C8A-B45E-58038E4C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CB130-3B10-400B-9ABC-8D054F13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95803-5D43-4EB5-8F9F-01F90776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3FE7E-CC52-43A3-8929-5C6C5BDB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B9BC0-C7A4-44D4-8630-991B18FC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E944E-9C2E-406A-85E0-FC077BD7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DD0ED-8607-4726-93D4-FB1CF7DC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7CDE9-0ADD-4A76-9BE6-5083C6B6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2A93A-6496-4ABA-9033-83F26187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DB0-24BA-4F3E-8E58-EEF75C80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A53FE-C9E2-43B8-BCCD-27046FAC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FDC73-CDBE-41A9-A06A-FCBA3131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B23DF-BB20-4060-93AB-D71B9EC6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34A5B-1328-4535-B89E-91CA8DE4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12A11-3DE9-4434-8653-E824E59B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1E1EF-11F9-45D6-A0F6-6BA96D13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AFC6D-251D-490F-9BD9-4DDDD333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71408-5E01-498E-8D55-9D2F59DA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43E14-95DD-43CD-A584-43BBCCBF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67AFC-0BD7-4F6C-82CF-A83C9935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19C5-10AE-4CDC-B3C6-B761A3E4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EF43A-B7BA-430A-B157-305BB1A8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37122-B0D4-4856-AFB2-388BFDC2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4F7C9-DD16-4AC4-B2C3-C7A06214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F2398-61ED-40CC-B7CD-F023212E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619B0-4DA2-45D7-A952-7611B693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076BF-2F99-4753-93CC-D9ED5E70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D73A0-36C6-4D2C-9F47-5507B44C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56980-7E63-4A0B-AB1C-D6E8FC0E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EA90C-DE71-42A6-BFCF-765C35AE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38701-4128-443D-A6F8-3542024E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7F6E-8C73-4A47-819D-9EC4EE06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0C5BA-EE7C-43E4-B55E-5AC72155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CD308-6FE7-4891-9A41-BEA3CBA0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0C123-7AC7-443B-83FE-9CF35AA8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7C1AE-9A5D-4821-9EFD-0A89627A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DE01F-F061-4D57-80E7-11C685D1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3D8-173C-4A6D-8248-C03FB4C6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FE13-EA66-465C-BD77-FBA5648688A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841E-CAA2-41CA-9F63-8CF73E3B5EF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115E-95BA-47B5-9B28-83DB9B79F7B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AC90-D5E5-42B6-B0F7-5211A375E12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53BD-65FB-4AFE-B77F-72214168E17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D1BF-A77D-414E-9082-DDBD3058E9D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86E0-ADDE-4193-B761-5EF905FC0A0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150040" cy="18957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Jessica Román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Shirley Parra 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omponentes de seguridad, para perdida de corriente eléctric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tecció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ivel 3: es la protección básica de </a:t>
            </a: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 servidores ,estaciones de trabajo y Pc´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ivel 5: es la protección media de centros de redes y dat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ivel 9: de altas prestacion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8 Marcador de contenido" descr="miniPatriotpro.jpg"/>
          <p:cNvPicPr/>
          <p:nvPr/>
        </p:nvPicPr>
        <p:blipFill>
          <a:blip r:embed="rId2"/>
          <a:stretch/>
        </p:blipFill>
        <p:spPr>
          <a:xfrm>
            <a:off x="6286680" y="1500120"/>
            <a:ext cx="1714320" cy="1285920"/>
          </a:xfrm>
          <a:prstGeom prst="rect">
            <a:avLst/>
          </a:prstGeom>
          <a:ln w="0">
            <a:noFill/>
          </a:ln>
        </p:spPr>
      </p:pic>
      <p:cxnSp>
        <p:nvCxnSpPr>
          <p:cNvPr id="379" name="10 Conector recto de flecha"/>
          <p:cNvCxnSpPr/>
          <p:nvPr/>
        </p:nvCxnSpPr>
        <p:spPr>
          <a:xfrm flipV="1">
            <a:off x="4500360" y="2071440"/>
            <a:ext cx="1500840" cy="357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380" name="13 Marcador de contenido" descr="5125fam2.jpg"/>
          <p:cNvPicPr/>
          <p:nvPr/>
        </p:nvPicPr>
        <p:blipFill>
          <a:blip r:embed="rId3"/>
          <a:stretch/>
        </p:blipFill>
        <p:spPr>
          <a:xfrm>
            <a:off x="6762600" y="4857840"/>
            <a:ext cx="2381400" cy="1819080"/>
          </a:xfrm>
          <a:prstGeom prst="rect">
            <a:avLst/>
          </a:prstGeom>
          <a:ln w="0">
            <a:noFill/>
          </a:ln>
        </p:spPr>
      </p:pic>
      <p:cxnSp>
        <p:nvCxnSpPr>
          <p:cNvPr id="381" name="19 Conector recto de flecha"/>
          <p:cNvCxnSpPr/>
          <p:nvPr/>
        </p:nvCxnSpPr>
        <p:spPr>
          <a:xfrm>
            <a:off x="4714560" y="3714840"/>
            <a:ext cx="5007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382" name="Picture 2" descr="mini9120.jpg (6019 bytes)"/>
          <p:cNvPicPr/>
          <p:nvPr/>
        </p:nvPicPr>
        <p:blipFill>
          <a:blip r:embed="rId4"/>
          <a:stretch/>
        </p:blipFill>
        <p:spPr>
          <a:xfrm>
            <a:off x="1000080" y="5072040"/>
            <a:ext cx="2714760" cy="1500120"/>
          </a:xfrm>
          <a:prstGeom prst="rect">
            <a:avLst/>
          </a:prstGeom>
          <a:ln w="0">
            <a:noFill/>
          </a:ln>
        </p:spPr>
      </p:pic>
      <p:cxnSp>
        <p:nvCxnSpPr>
          <p:cNvPr id="383" name="22 Conector recto de flecha"/>
          <p:cNvCxnSpPr/>
          <p:nvPr/>
        </p:nvCxnSpPr>
        <p:spPr>
          <a:xfrm flipH="1">
            <a:off x="3785760" y="4786200"/>
            <a:ext cx="357840" cy="5724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384" name="Picture 4" descr="mini5115.jpg "/>
          <p:cNvPicPr/>
          <p:nvPr/>
        </p:nvPicPr>
        <p:blipFill>
          <a:blip r:embed="rId5"/>
          <a:stretch/>
        </p:blipFill>
        <p:spPr>
          <a:xfrm>
            <a:off x="5072040" y="4857840"/>
            <a:ext cx="1643040" cy="1643040"/>
          </a:xfrm>
          <a:prstGeom prst="rect">
            <a:avLst/>
          </a:prstGeom>
          <a:ln w="0">
            <a:noFill/>
          </a:ln>
        </p:spPr>
      </p:pic>
      <p:cxnSp>
        <p:nvCxnSpPr>
          <p:cNvPr id="385" name="25 Conector recto de flecha"/>
          <p:cNvCxnSpPr/>
          <p:nvPr/>
        </p:nvCxnSpPr>
        <p:spPr>
          <a:xfrm>
            <a:off x="4713840" y="3929040"/>
            <a:ext cx="143640" cy="643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Sistema de seguridad redes wif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El protocolo 802.11 implementa </a:t>
            </a:r>
            <a:r>
              <a:rPr b="1" lang="es-ES" sz="1600" spc="-1" strike="noStrike">
                <a:solidFill>
                  <a:srgbClr val="000000"/>
                </a:solidFill>
                <a:latin typeface="Constantia"/>
              </a:rPr>
              <a:t>encriptación WEP</a:t>
            </a: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, pero no podemos mantener WEP como única estrategia de seguridad ya que no es del todo seguro. Existen aplicaciones para Linux y Windows (como AiroPeek, AirSnort, AirMagnet o WEPCrack) que, escaneando el suficiente número de paquetes de información de una red Wi-Fi, son capaces de obtener las claves WEP utilizadas y permitir el acceso de </a:t>
            </a:r>
            <a:r>
              <a:rPr b="0" i="1" lang="es-ES" sz="1600" spc="-1" strike="noStrike">
                <a:solidFill>
                  <a:srgbClr val="000000"/>
                </a:solidFill>
                <a:latin typeface="Constantia"/>
              </a:rPr>
              <a:t>intrusos</a:t>
            </a: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 a nuestra red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1. Cambia la contraseña por defecto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2. Usa encriptación WEP/WPA.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3. Cambia el SSID por defect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4. Desactiva el broadcasting SSID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5. Activa el filtrado de direcciones MAC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6. Establece el nº máximo de dispositivos que pueden conectars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7. Desactiva DHCP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8. Desconecta el AP cuando no lo us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9. Cambia las claves WEP regularment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nadores portátiles relación peso, potencia y pes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cer Aspire O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e diseño cuidado y llamativo, el portátil dispone de una pantalla LED de 8,9 pulgadas y 1.024x600 píxeles, mide 24x17 cm y pesa menos de 1 kg, contando con una batería de 3 celdas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recio 299.50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0" name="Picture 6" descr="E:\FOTOS ANA Y SHIRLEY\VIDEO\TRABAJO\T.I.C\IMAGENES\12401670.jpg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E:\FOTOS ANA Y SHIRLEY\VIDEO\TRABAJO\T.I.C\IMAGENES\12401667.jpg"/>
          <p:cNvPicPr/>
          <p:nvPr/>
        </p:nvPicPr>
        <p:blipFill>
          <a:blip r:embed="rId3"/>
          <a:stretch/>
        </p:blipFill>
        <p:spPr>
          <a:xfrm>
            <a:off x="5208480" y="3938760"/>
            <a:ext cx="29178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denadores portátiles liger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93" name="Picture 2" descr="E:\FOTOS ANA Y SHIRLEY\VIDEO\TRABAJO\T.I.C\IMAGENES\product-1369596.jpg"/>
          <p:cNvPicPr/>
          <p:nvPr/>
        </p:nvPicPr>
        <p:blipFill>
          <a:blip r:embed="rId2"/>
          <a:stretch/>
        </p:blipFill>
        <p:spPr>
          <a:xfrm>
            <a:off x="1206360" y="174132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E:\FOTOS ANA Y SHIRLEY\VIDEO\TRABAJO\T.I.C\IMAGENES\13178520.jpg"/>
          <p:cNvPicPr/>
          <p:nvPr/>
        </p:nvPicPr>
        <p:blipFill>
          <a:blip r:embed="rId3"/>
          <a:stretch/>
        </p:blipFill>
        <p:spPr>
          <a:xfrm>
            <a:off x="1017720" y="3938760"/>
            <a:ext cx="2917800" cy="21873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cer Extensa 5230-571G16M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AM: 1024 MB, 2048 MB, 4096 M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ltura (Centímetros): 3.7 c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ncho (Centímetros): 38.3 c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eso (Kilos): 2.7 k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recio 329.0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denadores portáti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Fujitsu Siemens LifeBook T50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 RAM: 2048 G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apacidad del Disco Duro: 12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Resolución máxima: 1280 x 80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 óptica: DVD±RW D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eso: 2 g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recio 2.00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8" name="Picture 2" descr="E:\FOTOS ANA Y SHIRLEY\VIDEO\TRABAJO\T.I.C\IMAGENES\product-1326769.jpg"/>
          <p:cNvPicPr/>
          <p:nvPr/>
        </p:nvPicPr>
        <p:blipFill>
          <a:blip r:embed="rId2"/>
          <a:stretch/>
        </p:blipFill>
        <p:spPr>
          <a:xfrm>
            <a:off x="4929120" y="1785960"/>
            <a:ext cx="3571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royectores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42814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os 3 aspectos principales a consideraren un proyector son: Brillo (en lúmenes),  resolución o número de puntos (píxeles) que forman la imagen y  pes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Resolución es el número de puntos que forman la imagen. 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-La resolución más baja es SVGA , la imagen está formada por 480,000 puntos  .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-La resolución XGA   tiene 786,432 puntos lo que la hace más costos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49" name="Object 4"/>
          <p:cNvGraphicFramePr/>
          <p:nvPr/>
        </p:nvGraphicFramePr>
        <p:xfrm>
          <a:off x="5872320" y="1944720"/>
          <a:ext cx="1590480" cy="383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2320" y="1944720"/>
                    <a:ext cx="159048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Cañones proyectores y pantallas de gran tamañ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En los proyectores LCD (liquida crystal display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Fueron los primeros del merca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on practicos por su, tamaño, peso, bajo consumo de corrien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ueden de ser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-Proyectores con alto brillo, tienen entre 3000 y 20000 lumenes con un contraste entre 500:1 y 2000: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-Proyectores con mayor contraste  dinámico hasta 35000: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53" name="Object 2"/>
          <p:cNvGraphicFramePr/>
          <p:nvPr/>
        </p:nvGraphicFramePr>
        <p:xfrm>
          <a:off x="5645160" y="1571760"/>
          <a:ext cx="1962000" cy="504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45160" y="1571760"/>
                    <a:ext cx="196200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antallas de proyec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nstantia"/>
              </a:rPr>
              <a:t>Pantallas Retráctil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unto a favor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ermite mantenerla estética, mientras no se utili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s enrollab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s mucho mas económica que una eléctric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e instala en unos minuto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Fácil transpor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iger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Tamaño y preci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200 x 200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307 €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7" name="10 Marcador de contenido" descr="pantallas_de_tripode.gif"/>
          <p:cNvPicPr/>
          <p:nvPr/>
        </p:nvPicPr>
        <p:blipFill>
          <a:blip r:embed="rId2"/>
          <a:stretch/>
        </p:blipFill>
        <p:spPr>
          <a:xfrm>
            <a:off x="5214960" y="1785960"/>
            <a:ext cx="321480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antallas de proyección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4786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Pantalla Transparente de retroproyecció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nueva pantalla ``M31Clar´, es una pantalla de retroproyección holográfica.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Tamaño hasta los 300 x 200 cm, con un grosor de 3m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l porcentaje de transparente es del 90%.,una imagen brillante y clara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e adaptara cualquier medida(máximo de 300 X 200 cm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istintas posibilidades de fijación, desde cables , pequeñas piezas laterales, hasta la posibilidad de pegar la pantalla a un cristal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0" name="Picture 10" descr="Pantallas_transparente_holografica_retroproyeccion"/>
          <p:cNvPicPr/>
          <p:nvPr/>
        </p:nvPicPr>
        <p:blipFill>
          <a:blip r:embed="rId2"/>
          <a:stretch/>
        </p:blipFill>
        <p:spPr>
          <a:xfrm>
            <a:off x="5000760" y="1857240"/>
            <a:ext cx="396072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antallas de sobremesa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85480" y="160020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  <a:ea typeface="Arial"/>
              </a:rPr>
              <a:t>PANTALLAS PORTÁTILES DE PROYECCIÓN SUELO O SOBREMES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  <a:ea typeface="Arial"/>
              </a:rPr>
              <a:t>PANTALLAS M31 FLY M Y M31 FLY DUO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  <a:ea typeface="Arial"/>
              </a:rPr>
              <a:t>.Esta generación de pantallas portátiles es, simple, compacta y robusta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  <a:ea typeface="Arial"/>
              </a:rPr>
              <a:t>La altura de abertura es ajustable a todas las medidas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  <a:ea typeface="Arial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  <a:ea typeface="Arial"/>
              </a:rPr>
              <a:t>Pantalla M31 Fly "M" de 200 x 150 cm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  <a:ea typeface="Arial"/>
              </a:rPr>
              <a:t>M31 FLY "DUO"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nstantia"/>
                <a:ea typeface="Arial"/>
              </a:rPr>
              <a:t>  (cajón de aluminio anodiz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  <a:ea typeface="Arial"/>
              </a:rPr>
              <a:t>Pantalla M31 Fly "Dúo" de 200 x 150 cm - 200 x 112 cm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3" name="Picture 15" descr="Sin-título-2"/>
          <p:cNvPicPr/>
          <p:nvPr/>
        </p:nvPicPr>
        <p:blipFill>
          <a:blip r:embed="rId2"/>
          <a:stretch/>
        </p:blipFill>
        <p:spPr>
          <a:xfrm>
            <a:off x="4981680" y="1639800"/>
            <a:ext cx="3371760" cy="2105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6" descr="Sin-título-1"/>
          <p:cNvPicPr/>
          <p:nvPr/>
        </p:nvPicPr>
        <p:blipFill>
          <a:blip r:embed="rId3"/>
          <a:stretch/>
        </p:blipFill>
        <p:spPr>
          <a:xfrm>
            <a:off x="5357880" y="4146480"/>
            <a:ext cx="26193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Ordenadores para diseño grafico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6" name="Picture 7" descr="features_graphics_hero20090303"/>
          <p:cNvPicPr/>
          <p:nvPr/>
        </p:nvPicPr>
        <p:blipFill>
          <a:blip r:embed="rId2"/>
          <a:stretch/>
        </p:blipFill>
        <p:spPr>
          <a:xfrm>
            <a:off x="-357120" y="1500120"/>
            <a:ext cx="4286160" cy="2214720"/>
          </a:xfrm>
          <a:prstGeom prst="rect">
            <a:avLst/>
          </a:prstGeom>
          <a:ln w="0">
            <a:noFill/>
          </a:ln>
        </p:spPr>
      </p:pic>
      <p:pic>
        <p:nvPicPr>
          <p:cNvPr id="367" name="8 Marcador de contenido" descr="specs_ports20090303.jpg"/>
          <p:cNvPicPr/>
          <p:nvPr/>
        </p:nvPicPr>
        <p:blipFill>
          <a:blip r:embed="rId3"/>
          <a:stretch/>
        </p:blipFill>
        <p:spPr>
          <a:xfrm>
            <a:off x="214200" y="4143240"/>
            <a:ext cx="1357560" cy="218772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000320" y="1357200"/>
            <a:ext cx="4686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MAC PR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istema operativo mas poten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- Gráficos mas rápidos y flexib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Ranura gráfica PCI Express 2.0   con 16 canales para GeForce GT 120 de NVIDIA o Radeon HD 4870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rquitectura de ultima genera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isco duro Serial ATA de 640 GB a 3 Gb/s y 7.200 rp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lto: 51,1 cm Ancho: 20,6 cm. Peso 8 núcleos: 18,7 kg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onstantia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y 4 n  núcleos: 18,1 kg</a:t>
            </a:r>
            <a:r>
              <a:rPr b="0" lang="es-ES" sz="2000" spc="-1" strike="noStrike" baseline="30000">
                <a:solidFill>
                  <a:srgbClr val="000000"/>
                </a:solidFill>
                <a:latin typeface="Constantia"/>
              </a:rPr>
              <a:t>6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9" name="Picture 9" descr="features_graphics_cards20090303"/>
          <p:cNvPicPr/>
          <p:nvPr/>
        </p:nvPicPr>
        <p:blipFill>
          <a:blip r:embed="rId4"/>
          <a:stretch/>
        </p:blipFill>
        <p:spPr>
          <a:xfrm>
            <a:off x="2000160" y="3643200"/>
            <a:ext cx="16383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Ordenadores de diseño portátil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MckBoo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Trabaja mas rápi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Edita mas rápi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Crea mas rápido: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combinación procesador Core 2 Duo, permite diseñar, ilustrar y anim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Dimensiones y peso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Alto: 2,41 cm Ancho: 36,4 cm Fondo: 24,9 cm Peso: 2,49 kg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Dura entre 8 y 7 horas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Precio:2.200,19 €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2" name="10 Marcador de contenido" descr="features_mbp_graphics20090608.jpg"/>
          <p:cNvPicPr/>
          <p:nvPr/>
        </p:nvPicPr>
        <p:blipFill>
          <a:blip r:embed="rId2"/>
          <a:stretch/>
        </p:blipFill>
        <p:spPr>
          <a:xfrm>
            <a:off x="4765680" y="1600200"/>
            <a:ext cx="3803760" cy="2614680"/>
          </a:xfrm>
          <a:prstGeom prst="rect">
            <a:avLst/>
          </a:prstGeom>
          <a:ln w="0">
            <a:noFill/>
          </a:ln>
        </p:spPr>
      </p:pic>
      <p:pic>
        <p:nvPicPr>
          <p:cNvPr id="373" name="12 Marcador de contenido" descr="specs_dimensions_15_20090608.png"/>
          <p:cNvPicPr/>
          <p:nvPr/>
        </p:nvPicPr>
        <p:blipFill>
          <a:blip r:embed="rId3"/>
          <a:stretch/>
        </p:blipFill>
        <p:spPr>
          <a:xfrm>
            <a:off x="5291280" y="4842000"/>
            <a:ext cx="313848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omponentes de seguridad, para perdida de corriente eléctric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2920" y="1999800"/>
            <a:ext cx="878688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es de Energía ó Apagones 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ños como pérdida de dato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jadas de Voltaje Momentáne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os de Tensión 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s resultados pueden ser daños irreversibles al hardwar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jadas de Tensión Sostenida 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ños al Hardwar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Voltaje ó Subidas de Tensión 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érdida de la información y daños del hardwar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ido Eléctrico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ña los componentes electrónico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ción de Frecuencia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érdida de información, caídas del sistema y daños de equipo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picos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mportamientos extraños del ordenado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orsión Armónica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ede provocar sobrecalentamiento en los ordenador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76a3"/>
                </a:solidFill>
                <a:latin typeface="Constantia"/>
                <a:ea typeface="Times New Roman"/>
              </a:rPr>
              <a:t>Recuerde que el 50% de los problemas ocasionados en los equipos eléctricos e informáticos y las perdidas de información son debidos a interrupciones y perturbaciones en el suministro de la RED eléctrica , se pierden dato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8:33:35Z</dcterms:created>
  <dc:creator>Usuario</dc:creator>
  <dc:description/>
  <dc:language>en-US</dc:language>
  <cp:lastModifiedBy>Usuario</cp:lastModifiedBy>
  <dcterms:modified xsi:type="dcterms:W3CDTF">2009-11-19T11:55:10Z</dcterms:modified>
  <cp:revision>31</cp:revision>
  <dc:subject/>
  <dc:title>Madrid Sur HighTech S.A.</dc:title>
</cp:coreProperties>
</file>